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FEB-F7C3-4CB6-8D95-4C4AF75D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BAB-C1B3-45AC-8D7A-3B6ACF0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89C-9315-4BB6-964E-52A3E289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A44-96A6-4F49-9715-EA87BB9E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6C4-6AA7-482B-B311-ECBE9663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834-129D-49F6-9477-549339F0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071-5E47-414B-86EC-80928C9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93E-2C67-474D-9B6A-B0359F02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00E-6277-4886-A4CA-F29D9654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376-B687-4E9F-AB09-7F0A05DC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75A-7265-4364-9E35-C4B7F69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8F6-047A-45F1-90C7-FE3D90A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1DC3F553-19A4-4840-A974-A30209FBB34C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14640" y="4257720"/>
            <a:ext cx="6724440" cy="168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-EVN science in 2006-2007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Zsolt Paragi (JIV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or the EXPRe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274320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06216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38480" y="2133720"/>
            <a:ext cx="2514600" cy="21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2895480"/>
            <a:ext cx="3809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7920" y="120600"/>
            <a:ext cx="43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SI 61+303 campaig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3520"/>
            <a:ext cx="83059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ary XRB system, also source of very energetic gamma ray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source of these? Earlier hypothesis: microquasar 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nt VLBA observations (Mioduszewski et al.) suggest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acting pulsar wind sourc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 collaboration observations including e-EVN, VLBA, MERLIN, CHANDRA in Octob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5440" y="3191040"/>
            <a:ext cx="4586040" cy="30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8240" y="2743200"/>
            <a:ext cx="2528640" cy="168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0280" y="3086280"/>
            <a:ext cx="3640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GIC telescope and a view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s surroundings in La Palma.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ble of detecting very high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ma 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lescope is operat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IC collaboration of 17 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http://wwwmagic.mppmu.mpg.de/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764-E03A-4870-A104-6EDB5386351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7920" y="1206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d th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5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040" y="308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157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2448000"/>
            <a:ext cx="756288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124080" cy="198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51480" y="4343400"/>
            <a:ext cx="5279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ltimate answer on the nature of the binary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and X-rays originate from a different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electrons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indication for temporal correla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rays and 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bert et al. (2008), Astrophys. J. (accepte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tro-ph/0801.3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222-3510-4193-B5F6-8570E3606A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6840" y="120600"/>
            <a:ext cx="47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GR 17303-0601 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240" y="579132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. Pandey, Z. Paragi, P. Durouchou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. Bignall, PoS(Dynamic2007)0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43520" y="1143000"/>
            <a:ext cx="402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source, with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counterpart showing 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e, and associated(?) radio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V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3514680" cy="308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590640" cy="3838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61800" y="4381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VLBI  confirms compactness, but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 is inconsistent with optical co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ssociated, radio source is no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icroquasar jet – likely background A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FE1-8F85-433E-87D5-59B41F60020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7200" y="120600"/>
            <a:ext cx="81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 and e-VLBI observations of Alg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2960" y="990720"/>
            <a:ext cx="69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l is one of the most famous variable stars, also known as beta Pers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647960" cy="3479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52680" cy="2154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38360" y="1486080"/>
            <a:ext cx="381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very nearby, only 26 parsecs a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for optical/radio interfer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l is active from radio to the 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s, besides the optical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e to regular eclip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8480" y="5143680"/>
            <a:ext cx="44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ist’s impression on the close bin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web. The K-subgiant is the sour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112-79C5-4CE2-A294-AC62C441226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6840" y="12060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CHARA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4920" y="762120"/>
            <a:ext cx="49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HARA array is located at Mount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lifornia, USA, and is opera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High Angular Resolution for Ast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http://www.chara.gsu.edu/CHAR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7714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9720" y="30290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962-6F73-4B78-A99B-51CD3D93DF1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6120" y="120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8680" y="1066680"/>
            <a:ext cx="24210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 fringes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fter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ed vis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s vs.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are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2895840" cy="2066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2895480" cy="207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04920" y="3284640"/>
            <a:ext cx="4343400" cy="3039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60240" y="3619440"/>
            <a:ext cx="35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tted orbital parameters to the 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nd geometry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d distance: 26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 p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ccurate than HIPPARC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62760" y="5219640"/>
            <a:ext cx="3999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, submitted to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Manchester MRU proceed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sizmadia et al. (refereed paper in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674-D968-4906-B789-D896ABDA561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91200" y="3581280"/>
            <a:ext cx="3419280" cy="2676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2919240"/>
            <a:ext cx="4457880" cy="3481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3124080" cy="3005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8280" y="12060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lgol, 14 December 2006 e-EVN ru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49680" y="1001880"/>
            <a:ext cx="533448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taneous optical photometry and e-EVN o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 GHz, 256 Mbps) during secondary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flared – total intensity and circular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s consistent between WSRT and e-EV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re emission ~2 mas offset from the CP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2400" y="2666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ed proper motion dur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hours run –fitted orbit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B close binary, but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097000" y="685800"/>
            <a:ext cx="56754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33920" y="160020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Dedicated observations of such f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will be challenging even for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8680" y="1959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048-C5BB-4A45-8551-B66F1172BC2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5040" y="2286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upernovae: and old story with e-EV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4172040"/>
            <a:ext cx="3962160" cy="2219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990720"/>
            <a:ext cx="45720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2001em was discovered on 15 September 2001 in UGC11794 galaxy (Pepenkova 200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shift z~0.02 corresponding to a distance of 80~M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ippenko and Chornok (2001) classified it as type Ib/c, most likely 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al radio and X-ray lumino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ff axis GRB, developing late radio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e to jet break?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quite a 1 mJy radi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N observations: Cm, Jb2, On, Tr, Wb (128Mbps), +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cibo 300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64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18cm, on 2005 Ma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tative detection (4.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f the first real faint target with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 (2005), MSAI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319560" cy="3203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8800" y="9144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rrett et al.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803-E3AF-47DC-8D81-30089AEDBC2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63240" y="228600"/>
            <a:ext cx="55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N 2007gr ToO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407960"/>
            <a:ext cx="4572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2007gr was discovered on 15 Aug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KAIT (CBET 1034); identifi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Ib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ance is about 7.3 Mpc, 10x closer than SN 2001em w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A discovers 610 microJy radi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oderberg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EVN observations: Da, Jb2, On, Tr, Wb (256Mbps), at 6cm, on 2007 Sep 6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m detection (5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f the super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the VLA erro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gi et al. (2007), ATel #1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05520" y="1380960"/>
            <a:ext cx="3647880" cy="4334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763-648D-42ED-8348-2A9AEC68896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4981320" cy="647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251040" y="533520"/>
            <a:ext cx="27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fir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Tel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rom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EV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3E1-E169-4D5F-AE82-364976607C3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1160" y="45720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will e-VLBI offer for us one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37160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bps data rates/telescope, two orders of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 sensitivity, “full” uv-coverage, flexibili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1520" y="2514600"/>
            <a:ext cx="62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the e-EVN can offer tod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2760" y="3200400"/>
            <a:ext cx="8859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ensitivity and resolution compared to EVN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lexibility for rapid respons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feedback, you know if it works, you know what you obser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quick decision about more observations (VLBI or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ccess, easy use – high level of PI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16F-90F8-4C74-BED7-85EDB7E34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159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07400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e e-EVN has participated in a variety of science observa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contributed to results carried out in ambitious multi-waveb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e ‘used’ the e-VLBI developments to stir a bit of noise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e EVN, and attract new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ut more is needed to make e-EVN a very competitive, unique instr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41C-7000-4689-B05E-6BE4D92173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159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What else astronomers want?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468440"/>
            <a:ext cx="7073640" cy="47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ter sensitivity and *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 happen with new radio telescopes being connected so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recibo 300m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56 Mbps spring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hanghai +2 new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1 Gpbs available (not operationally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lsberg 100m — expected spring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bes 40m — expected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ter flexibility, not fixed dates, allow multiple epochs to follow up transien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8 will get close to disk-recording VLBI resolution and sensitivity, and will be more flexible for T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challenging for telescopes as well as the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2F4-23B0-4468-B968-6523271054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2240" y="457200"/>
            <a:ext cx="67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ere are we now in capabiliti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920" y="1371600"/>
            <a:ext cx="867096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tivity and resolution in typical observations, 5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EVN in 2007, 256 Mbps: 50 uJy/beam, ~6 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EVN, 512 Mbps: 35 uJy/beam, ~6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EVN in 2008, 512 Mbps, 10 uJy/beam, ~6 mas (~1 mas with 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EVN (no Ar), 1024 Mbps, 12 uJy/beam, ~1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BA, 512 Mbps, 30 uJy/beam, ~1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BA+GBT, 512 Mbps, 12 uJy/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-EVN is reaching very competitive sensitivity in 2008, but resolution remains an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78D-92FB-4860-BBC2-C6A697B78FE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0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360" y="457200"/>
            <a:ext cx="49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d how far can we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1371600"/>
            <a:ext cx="855000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ensit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1 Gbps test results; 10 Gbps technology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ck with max. 1 Gbps with current EVN! =&gt; actions by C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olution/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crucial to get long baselines other than Ar and 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ides EVN telescopes, can we initiate a more global array including Australian and Japanese telesco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possible at all to make the EVN respond to some triggers on previously unscheduled dates? What needs to be done to achieve thi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76E-C463-4962-8E65-93AA41999C3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1160" y="304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VLBI activities in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120" y="1066680"/>
            <a:ext cx="85312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e-VLBI test observations in every six week (on aver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h time is pre-allocated for science observation during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ing proposals now must be sent to normal EVN deadlines; a new type of triggered proposal class, normal and spectral project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operations at 1.6 and 5GHz, up to 256 Mb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m, Jb2, Mc, On, Tr, 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22 GHz test with Metsahovi in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and Shanghai demos, great success!; 512 Mbps in Australia science demo observations, with small number of t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cently: robust 512 Mbps operations, and 1 Gbps fring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A02-DE6D-47C7-8DE5-98F0B63EADC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9360" y="34920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cience results from the ‘Oz-demo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" y="1368360"/>
            <a:ext cx="68436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CA, Mopra and Parkes observations at 512 Mbps, correlated at J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: the nearby supernova in the LMC, only visible from the S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239920"/>
            <a:ext cx="5029200" cy="393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26680" y="3009960"/>
            <a:ext cx="244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breath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s of SN1987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339-8EAA-49C5-B1FE-8EE65A9874C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6840" y="3492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And with VLB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38400" cy="3930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43400" y="2543040"/>
            <a:ext cx="4657680" cy="340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1720" y="5219640"/>
            <a:ext cx="37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resolution image of SN198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far (first VLBI!) – not bad fo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telescope array. Countours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arlier ATCA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4680" y="1143000"/>
            <a:ext cx="40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ous fits to the data to measure th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expanding remn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ingay et al., (in pre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125-5F8C-41D4-A7C3-A38458D73D4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9000" y="34920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EVN science projects in 2006/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3800" y="1066680"/>
            <a:ext cx="78174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g X-3, 20 Apr/18 May 2006, 128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S1915+105, 20 Apr 2006, 128 Mbps, Rusht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I +61.303, 256 Mbps, 26 Oct 2006, Perez-Torres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l, 26 Oct/14 Dec 2006, 256 Mbps, Paragi et 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 near M81, 14 Dec 2006, 256 Mbps, Brunthaler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microquasar candidates, 14 Dec 2006, Pandey et 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header” run, 15 XRBs, 29 Jan 2007, Rushton &amp; Sp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ors, 21 Feb 2007, 256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2020+3631 microquasar candidate, 28 Mar 2007, 256 Mbps, M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g X-3, 12-13 Jun 2007, 256 Mbps, Tudos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ellar maser search, 22-23 Aug 2007, 32 Mbps, Langeveld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GRAL source redo, 6-7 Sep 2007, 256 Mbps, Pandey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Ib/c SN 2007gr, 6-7 Sep 2007, 256 Mbps, Paragi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3C3-3BED-4C01-8241-B0EA2EFC1A8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9000" y="1206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irst refereed journal pap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2960" y="914400"/>
            <a:ext cx="5406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S 1915+105: Rushton et al. (2007), MNR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7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yg X-3: Tudose et al. (2007), MNRA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7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40480" y="19810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Cyg 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824120"/>
            <a:ext cx="5410440" cy="297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67080" y="3666960"/>
            <a:ext cx="4724640" cy="258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35440" y="2514600"/>
            <a:ext cx="32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math of a huge out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first detection of polarisa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BI scales in a microqu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5120" y="499104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PI’s really need is to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 these events in (1) closely sp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ing observations, (2) when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ppen, not on fixed 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meeting, Utrech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AFE-690A-4419-9573-D0B84837861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System Management</cp:lastModifiedBy>
  <dcterms:modified xsi:type="dcterms:W3CDTF">2008-01-29T13:21:52Z</dcterms:modified>
  <cp:revision>212</cp:revision>
  <dc:subject/>
  <dc:title>Slide 1</dc:title>
</cp:coreProperties>
</file>